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343080" indent="-3430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343080" indent="-3430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343080" indent="-3430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3452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812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2788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745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5728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0188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4612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9072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33532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33532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33532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67560" indent="-325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325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954360" indent="-325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247760" indent="-325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541160" indent="-325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541160" indent="-325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541160" indent="-325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3452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812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2788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745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2124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587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158760" indent="75564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158760" indent="121284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158760" indent="167004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158760" indent="1670040">
              <a:spcBef>
                <a:spcPts val="901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158760" indent="1670040">
              <a:spcBef>
                <a:spcPts val="901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522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9392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3255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7125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0991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0991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0991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57780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9824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38672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7910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1956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1956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1956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35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335880" indent="-335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35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335880" indent="-335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La francophoni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 little quiz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On y va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Gill Sans"/>
                <a:hlinkClick r:id="rId2" action="ppaction://hlinksldjump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3835440" y="5969160"/>
            <a:ext cx="863640" cy="939600"/>
          </a:xfrm>
          <a:prstGeom prst="rightArrow">
            <a:avLst>
              <a:gd name="adj1" fmla="val 32000"/>
              <a:gd name="adj2" fmla="val 64708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"/>
          <p:cNvPicPr/>
          <p:nvPr/>
        </p:nvPicPr>
        <p:blipFill>
          <a:blip r:embed="rId1"/>
          <a:srcRect l="14616" t="2114" r="14740" b="2114"/>
          <a:stretch/>
        </p:blipFill>
        <p:spPr>
          <a:xfrm>
            <a:off x="2801880" y="-6480"/>
            <a:ext cx="7383600" cy="55371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5320800"/>
            <a:ext cx="10464840" cy="312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many French speaking countries are there in the world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 action="ppaction://hlinksldjump"/>
              </a:rPr>
              <a:t>About fiftee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3" action="ppaction://hlinksldjump"/>
              </a:rPr>
              <a:t>F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4" action="ppaction://hlinksldjump"/>
              </a:rPr>
              <a:t>Over for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2387520" y="6324480"/>
            <a:ext cx="506520" cy="4017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2387520" y="7010280"/>
            <a:ext cx="507960" cy="40500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2387520" y="7696080"/>
            <a:ext cx="571680" cy="52092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60160" y="698040"/>
            <a:ext cx="10464840" cy="726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en-US" sz="14400" spc="-1" strike="noStrike">
                <a:solidFill>
                  <a:srgbClr val="ffffff"/>
                </a:solidFill>
                <a:latin typeface="Gill Sans"/>
              </a:rPr>
              <a:t>x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u as tort!</a:t>
            </a:r>
            <a:br>
              <a:rPr sz="8400"/>
            </a:br>
            <a:br>
              <a:rPr sz="8400"/>
            </a:br>
            <a:r>
              <a:rPr b="0" lang="en-US" sz="64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Try again</a:t>
            </a:r>
            <a:r>
              <a:rPr b="0" lang="en-US" sz="6400" spc="-1" strike="noStrike" u="sng">
                <a:solidFill>
                  <a:srgbClr val="009999"/>
                </a:solidFill>
                <a:uFillTx/>
                <a:latin typeface="Gill Sans"/>
                <a:hlinkClick r:id="rId2" action="ppaction://hlinksldjump"/>
              </a:rPr>
              <a:t>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3835440" y="6248520"/>
            <a:ext cx="876240" cy="952560"/>
          </a:xfrm>
          <a:prstGeom prst="rightArrow">
            <a:avLst>
              <a:gd name="adj1" fmla="val 32000"/>
              <a:gd name="adj2" fmla="val 63769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006640" y="4952520"/>
            <a:ext cx="902952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continent has the most French speaking countries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North America_x000b_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 action="ppaction://hlinksldjump"/>
              </a:rPr>
              <a:t>Europ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3" action="ppaction://hlinksldjump"/>
              </a:rPr>
              <a:t>Afric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AutoShape 2"/>
          <p:cNvSpPr/>
          <p:nvPr/>
        </p:nvSpPr>
        <p:spPr>
          <a:xfrm>
            <a:off x="2997360" y="6172200"/>
            <a:ext cx="626760" cy="5875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3073320" y="6934320"/>
            <a:ext cx="507960" cy="45720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2997360" y="7696080"/>
            <a:ext cx="622080" cy="58428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7"/>
          <a:stretch/>
        </p:blipFill>
        <p:spPr>
          <a:xfrm>
            <a:off x="4038480" y="254160"/>
            <a:ext cx="43941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958840"/>
            <a:ext cx="104648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Gill Sans"/>
              </a:rPr>
              <a:t>x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u as tort!</a:t>
            </a:r>
            <a:br>
              <a:rPr sz="8400"/>
            </a:br>
            <a:br>
              <a:rPr sz="8400"/>
            </a:br>
            <a:r>
              <a:rPr b="0" lang="en-US" sz="6400" spc="-1" strike="noStrike" u="sng">
                <a:solidFill>
                  <a:srgbClr val="009999"/>
                </a:solidFill>
                <a:uFillTx/>
                <a:latin typeface="Gill Sans"/>
                <a:hlinkClick r:id="rId1" action="ppaction://hlinksldjump"/>
              </a:rPr>
              <a:t>Try again</a:t>
            </a: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.</a:t>
            </a:r>
            <a:br>
              <a:rPr sz="6400"/>
            </a:br>
            <a:br>
              <a:rPr sz="6400"/>
            </a:b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3606840" y="5943600"/>
            <a:ext cx="927000" cy="711360"/>
          </a:xfrm>
          <a:prstGeom prst="rightArrow">
            <a:avLst>
              <a:gd name="adj1" fmla="val 32000"/>
              <a:gd name="adj2" fmla="val 7855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09400" y="4889520"/>
            <a:ext cx="1046484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is the official name of the French flag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</a:rPr>
              <a:t>La glori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</a:rPr>
              <a:t>Le tricolor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</a:rPr>
              <a:t>Le bleu, blanc, et rou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rcRect l="5377" t="0" r="5527" b="0"/>
          <a:stretch/>
        </p:blipFill>
        <p:spPr>
          <a:xfrm>
            <a:off x="3454560" y="127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3"/>
          <p:cNvSpPr/>
          <p:nvPr/>
        </p:nvSpPr>
        <p:spPr>
          <a:xfrm>
            <a:off x="3378240" y="5486400"/>
            <a:ext cx="566640" cy="527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3454560" y="6248520"/>
            <a:ext cx="507960" cy="4572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378240" y="7010280"/>
            <a:ext cx="571320" cy="53352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971800"/>
            <a:ext cx="10464840" cy="552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Gill Sans"/>
              </a:rPr>
              <a:t>x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u as tort!</a:t>
            </a:r>
            <a:br>
              <a:rPr sz="8400"/>
            </a:br>
            <a:br>
              <a:rPr sz="8400"/>
            </a:br>
            <a:r>
              <a:rPr b="0" lang="en-US" sz="6400" spc="-1" strike="noStrike" u="sng">
                <a:solidFill>
                  <a:srgbClr val="009999"/>
                </a:solidFill>
                <a:uFillTx/>
                <a:latin typeface="Gill Sans"/>
              </a:rPr>
              <a:t>Try again</a:t>
            </a: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3454560" y="7162920"/>
            <a:ext cx="1041120" cy="888840"/>
          </a:xfrm>
          <a:prstGeom prst="rightArrow">
            <a:avLst>
              <a:gd name="adj1" fmla="val 32000"/>
              <a:gd name="adj2" fmla="val 6286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7480" y="1790280"/>
            <a:ext cx="10464480" cy="778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Bien fait! Tu as fini. </a:t>
            </a:r>
            <a:br>
              <a:rPr sz="72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red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 photo images were foun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</a:rPr>
              <a:t>www.pics4learning.co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0:44:01Z</dcterms:created>
  <dc:creator/>
  <dc:description/>
  <cp:keywords/>
  <dc:language>en-US</dc:language>
  <cp:lastModifiedBy>Georgina Duff</cp:lastModifiedBy>
  <dcterms:modified xsi:type="dcterms:W3CDTF">2010-05-03T16:48:37Z</dcterms:modified>
  <cp:revision>12</cp:revision>
  <dc:subject/>
  <dc:title>La francophonie</dc:title>
</cp:coreProperties>
</file>